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etrostyle Extended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trostyl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Metro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trostyl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trostyl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Metro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trostyl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Metro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trostyl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Metro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trostyl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Metro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trostyl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ffffff"/>
                </a:solidFill>
                <a:latin typeface="Futura XBlk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Futura XBlk BT"/>
              </a:rPr>
              <a:t>&lt;date/time&gt;</a:t>
            </a:r>
            <a:r>
              <a:rPr b="0" lang="de-DE" sz="1600" spc="-1" strike="noStrike">
                <a:solidFill>
                  <a:srgbClr val="ffffff"/>
                </a:solidFill>
                <a:latin typeface="Futura XBlk BT"/>
              </a:rPr>
              <a:t>www.diatec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Metrostyle Extend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etrostyle Extended"/>
              </a:rPr>
              <a:t>&lt;footer&gt;</a:t>
            </a:r>
            <a:r>
              <a:rPr b="0" lang="en-US" sz="1600" spc="-1" strike="noStrike">
                <a:solidFill>
                  <a:srgbClr val="ffffff"/>
                </a:solidFill>
                <a:latin typeface="Metrostyle Extended"/>
              </a:rPr>
              <a:t>DIATEC Gmb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3366ff"/>
                </a:solidFill>
                <a:latin typeface="Metrostyle Extended"/>
              </a:rPr>
              <a:t>Per‘f-Alite</a:t>
            </a:r>
            <a:r>
              <a:rPr b="0" lang="de-DE" sz="5400" spc="-1" strike="noStrike" baseline="30000">
                <a:solidFill>
                  <a:srgbClr val="3366ff"/>
                </a:solidFill>
                <a:latin typeface="Metrostyle Extended"/>
              </a:rPr>
              <a:t>PAT.</a:t>
            </a:r>
            <a:br>
              <a:rPr sz="5400"/>
            </a:br>
            <a:r>
              <a:rPr b="0" lang="de-DE" sz="5400" spc="-1" strike="noStrike">
                <a:solidFill>
                  <a:srgbClr val="00ffff"/>
                </a:solidFill>
                <a:latin typeface="Metrostyle Extended"/>
              </a:rPr>
              <a:t>Electric Vinyl</a:t>
            </a:r>
            <a:endParaRPr b="0" lang="en-US" sz="5400" spc="-1" strike="noStrike">
              <a:solidFill>
                <a:srgbClr val="ffffff"/>
              </a:solidFill>
              <a:latin typeface="Metrostyle Extended"/>
            </a:endParaRPr>
          </a:p>
        </p:txBody>
      </p:sp>
      <p:sp>
        <p:nvSpPr>
          <p:cNvPr id="41" name=""/>
          <p:cNvSpPr/>
          <p:nvPr/>
        </p:nvSpPr>
        <p:spPr>
          <a:xfrm>
            <a:off x="1798560" y="3733920"/>
            <a:ext cx="47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       </a:t>
            </a: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the flexible solution for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15880" y="129528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etrostyle"/>
              </a:rPr>
              <a:t>Introduc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eterhd2%20copy22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3353040" cy="749160"/>
          </a:xfrm>
          <a:prstGeom prst="rect">
            <a:avLst/>
          </a:prstGeom>
          <a:ln w="0">
            <a:noFill/>
          </a:ln>
        </p:spPr>
      </p:pic>
      <p:pic>
        <p:nvPicPr>
          <p:cNvPr id="45" name="VisionAward1999%20video2" descr=""/>
          <p:cNvPicPr/>
          <p:nvPr/>
        </p:nvPicPr>
        <p:blipFill>
          <a:blip r:embed="rId2"/>
          <a:stretch/>
        </p:blipFill>
        <p:spPr>
          <a:xfrm>
            <a:off x="2362320" y="5105520"/>
            <a:ext cx="1295280" cy="1222200"/>
          </a:xfrm>
          <a:prstGeom prst="rect">
            <a:avLst/>
          </a:prstGeom>
          <a:ln w="0">
            <a:noFill/>
          </a:ln>
        </p:spPr>
      </p:pic>
      <p:pic>
        <p:nvPicPr>
          <p:cNvPr id="46" name="productOFTHEYEAR1999%20video2" descr=""/>
          <p:cNvPicPr/>
          <p:nvPr/>
        </p:nvPicPr>
        <p:blipFill>
          <a:blip r:embed="rId3"/>
          <a:stretch/>
        </p:blipFill>
        <p:spPr>
          <a:xfrm>
            <a:off x="3962520" y="5105520"/>
            <a:ext cx="1295280" cy="1271520"/>
          </a:xfrm>
          <a:prstGeom prst="rect">
            <a:avLst/>
          </a:prstGeom>
          <a:ln w="0">
            <a:noFill/>
          </a:ln>
        </p:spPr>
      </p:pic>
      <p:pic>
        <p:nvPicPr>
          <p:cNvPr id="47" name="productOFTHEYEAR2000%20video2" descr=""/>
          <p:cNvPicPr/>
          <p:nvPr/>
        </p:nvPicPr>
        <p:blipFill>
          <a:blip r:embed="rId4"/>
          <a:stretch/>
        </p:blipFill>
        <p:spPr>
          <a:xfrm>
            <a:off x="5486400" y="5105520"/>
            <a:ext cx="1295280" cy="12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Light-up the walkways with advertising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pic>
        <p:nvPicPr>
          <p:cNvPr id="87" name="Hallhuber1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685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"/>
              </a:rPr>
              <a:t>A dark and dreary pedestrian walkway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Hallhuber2" descr=""/>
          <p:cNvPicPr/>
          <p:nvPr/>
        </p:nvPicPr>
        <p:blipFill>
          <a:blip r:embed="rId2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1800" y="6400800"/>
            <a:ext cx="67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"/>
              </a:rPr>
              <a:t>…</a:t>
            </a:r>
            <a:r>
              <a:rPr b="0" lang="de-DE" sz="2400" spc="-1" strike="noStrike">
                <a:solidFill>
                  <a:srgbClr val="ffffff"/>
                </a:solidFill>
                <a:latin typeface="Metrostyle"/>
              </a:rPr>
              <a:t>Electric Vinyl makes this beauty come to lif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Finally, nice looking wastepaper baskets!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pic>
        <p:nvPicPr>
          <p:cNvPr id="92" name="Mülle1" descr=""/>
          <p:cNvPicPr/>
          <p:nvPr/>
        </p:nvPicPr>
        <p:blipFill>
          <a:blip r:embed="rId1"/>
          <a:stretch/>
        </p:blipFill>
        <p:spPr>
          <a:xfrm>
            <a:off x="-609480" y="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7560" y="380880"/>
            <a:ext cx="58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"/>
              </a:rPr>
              <a:t>Wastepaper baskets are unappealing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Mülle2" descr=""/>
          <p:cNvPicPr/>
          <p:nvPr/>
        </p:nvPicPr>
        <p:blipFill>
          <a:blip r:embed="rId2"/>
          <a:stretch/>
        </p:blipFill>
        <p:spPr>
          <a:xfrm>
            <a:off x="-609480" y="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3680" y="457200"/>
            <a:ext cx="67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"/>
              </a:rPr>
              <a:t>... Unless, you light them up with colorful 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Free hanging lit-up signs!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pic>
        <p:nvPicPr>
          <p:cNvPr id="97" name="Herti1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3240" y="6019920"/>
            <a:ext cx="32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"/>
              </a:rPr>
              <a:t>Free hanging sign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erti2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5320" y="6019920"/>
            <a:ext cx="63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"/>
              </a:rPr>
              <a:t>... Are much more visible with Electric Viny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Lit-up window displays!</a:t>
            </a: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pic>
        <p:nvPicPr>
          <p:cNvPr id="102" name="Reiseb1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3440" y="304920"/>
            <a:ext cx="68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"/>
              </a:rPr>
              <a:t>A window display doesn‘t have to be uninv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Reise2" descr=""/>
          <p:cNvPicPr/>
          <p:nvPr/>
        </p:nvPicPr>
        <p:blipFill>
          <a:blip r:embed="rId2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60357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"/>
              </a:rPr>
              <a:t>With electric vinyl you can draw attention to special advertis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3366ff"/>
                </a:solidFill>
                <a:latin typeface="Metrostyle Extended"/>
              </a:rPr>
              <a:t>Transparent </a:t>
            </a:r>
            <a:br>
              <a:rPr sz="6000"/>
            </a:br>
            <a:r>
              <a:rPr b="0" lang="de-DE" sz="5400" spc="-1" strike="noStrike">
                <a:solidFill>
                  <a:srgbClr val="3366ff"/>
                </a:solidFill>
                <a:latin typeface="Metrostyle Extended"/>
              </a:rPr>
              <a:t>Per‘f-Alite</a:t>
            </a:r>
            <a:r>
              <a:rPr b="0" lang="de-DE" sz="5400" spc="-1" strike="noStrike" baseline="30000">
                <a:solidFill>
                  <a:srgbClr val="3366ff"/>
                </a:solidFill>
                <a:latin typeface="Metrostyle Extended"/>
              </a:rPr>
              <a:t>PAT.</a:t>
            </a:r>
            <a:r>
              <a:rPr b="0" lang="de-DE" sz="6000" spc="-1" strike="noStrike">
                <a:solidFill>
                  <a:srgbClr val="3366ff"/>
                </a:solidFill>
                <a:latin typeface="Metrostyle Extended"/>
              </a:rPr>
              <a:t> </a:t>
            </a:r>
            <a:br>
              <a:rPr sz="6000"/>
            </a:br>
            <a:r>
              <a:rPr b="0" lang="de-DE" sz="6000" spc="-1" strike="noStrike">
                <a:solidFill>
                  <a:srgbClr val="3366ff"/>
                </a:solidFill>
                <a:latin typeface="Metrostyle Extended"/>
              </a:rPr>
              <a:t>  Electric Vinyl</a:t>
            </a:r>
            <a:endParaRPr b="0" lang="en-US" sz="6000" spc="-1" strike="noStrike">
              <a:solidFill>
                <a:srgbClr val="ffffff"/>
              </a:solidFill>
              <a:latin typeface="Metrostyle Extended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4419720"/>
            <a:ext cx="45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   </a:t>
            </a: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the flexible solution for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Folie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The material...</a:t>
            </a: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5334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is made from a special laser perforated light producing media and a printable media that is heat transfered to the perforated electric vinyl. Once transferred, the image is fully illuminated on one side and transparent or see-thru from the other side.  There is no evidence of the brilliant lighted image seen from the see-thru side.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ress22" descr=""/>
          <p:cNvPicPr/>
          <p:nvPr/>
        </p:nvPicPr>
        <p:blipFill>
          <a:blip r:embed="rId1"/>
          <a:stretch/>
        </p:blipFill>
        <p:spPr>
          <a:xfrm>
            <a:off x="0" y="1403280"/>
            <a:ext cx="9144000" cy="4049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9960" y="152280"/>
            <a:ext cx="851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his version is designed for window placement.  One-half of this image has be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laser perforated and is </a:t>
            </a: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see-thru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when viewed from inside the store or veh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Lit-up products using Transparent Electric Vinyl</a:t>
            </a: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sp>
        <p:nvSpPr>
          <p:cNvPr id="115" name=""/>
          <p:cNvSpPr/>
          <p:nvPr/>
        </p:nvSpPr>
        <p:spPr>
          <a:xfrm>
            <a:off x="861840" y="2895480"/>
            <a:ext cx="811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66ff"/>
                </a:solidFill>
                <a:latin typeface="Metrostyle Extended"/>
              </a:rPr>
              <a:t>For Instance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45716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Metrostyle"/>
              </a:rPr>
              <a:t>Turn any glass surface into a spectacular illuminated display without interferring with vision out of the office or vehicle</a:t>
            </a:r>
            <a:endParaRPr b="0" lang="en-US" sz="1600" spc="-1" strike="noStrike">
              <a:solidFill>
                <a:srgbClr val="ffffff"/>
              </a:solidFill>
              <a:latin typeface="Metrostyle"/>
            </a:endParaRPr>
          </a:p>
          <a:p>
            <a:pPr marL="21924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Metrostyle"/>
              </a:rPr>
              <a:t>Vehicles can be used as mobile advertising that lights up</a:t>
            </a:r>
            <a:endParaRPr b="0" lang="en-US" sz="1600" spc="-1" strike="noStrike">
              <a:solidFill>
                <a:srgbClr val="ffffff"/>
              </a:solidFill>
              <a:latin typeface="Metrostyle"/>
            </a:endParaRPr>
          </a:p>
          <a:p>
            <a:pPr marL="21924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Metrostyle"/>
              </a:rPr>
              <a:t>Electric vinyl shields bus passengers from the sun</a:t>
            </a:r>
            <a:endParaRPr b="0" lang="en-US" sz="1600" spc="-1" strike="noStrike">
              <a:solidFill>
                <a:srgbClr val="ffffff"/>
              </a:solidFill>
              <a:latin typeface="Metrostyle"/>
            </a:endParaRPr>
          </a:p>
          <a:p>
            <a:pPr marL="21924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Metrostyle"/>
              </a:rPr>
              <a:t>Dress up window displays with the semi-transparent vinyl</a:t>
            </a:r>
            <a:endParaRPr b="0" lang="en-US" sz="1600" spc="-1" strike="noStrike">
              <a:solidFill>
                <a:srgbClr val="ffffff"/>
              </a:solidFill>
              <a:latin typeface="Metrostyl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Light up the back side of a bus</a:t>
            </a: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pic>
        <p:nvPicPr>
          <p:cNvPr id="118" name="Bus3a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73400" y="6095880"/>
            <a:ext cx="66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"/>
              </a:rPr>
              <a:t>Electric Vinyl is adheared to the back of a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Bus2" descr=""/>
          <p:cNvPicPr/>
          <p:nvPr/>
        </p:nvPicPr>
        <p:blipFill>
          <a:blip r:embed="rId2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0080" y="6095880"/>
            <a:ext cx="65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"/>
              </a:rPr>
              <a:t>From the inside Electric Vinyl  is see-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Bus3b" descr=""/>
          <p:cNvPicPr/>
          <p:nvPr/>
        </p:nvPicPr>
        <p:blipFill>
          <a:blip r:embed="rId3"/>
          <a:stretch/>
        </p:blipFill>
        <p:spPr>
          <a:xfrm>
            <a:off x="-609480" y="-1522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28600" y="548640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"/>
              </a:rPr>
              <a:t>And in the dark, Electric Vinyl lights-up using it‘s own power supply,or use our Retroreflective Vinyl which also lights-up from other light sources such as headlights of following traffic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Mobile advertising</a:t>
            </a: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pic>
        <p:nvPicPr>
          <p:cNvPr id="125" name="Van1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2000" y="30492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"/>
              </a:rPr>
              <a:t>Electric Vinyl or Retroreflective vinyl advertising on a v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Van2" descr=""/>
          <p:cNvPicPr/>
          <p:nvPr/>
        </p:nvPicPr>
        <p:blipFill>
          <a:blip r:embed="rId2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45480" y="5562720"/>
            <a:ext cx="72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"/>
              </a:rPr>
              <a:t>... At night, it becomes an advertising spectacul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etrostyle Extended"/>
              </a:rPr>
              <a:t>Inventors and Manufacturers of:</a:t>
            </a:r>
            <a:endParaRPr b="0" lang="en-US" sz="2000" spc="-1" strike="noStrike">
              <a:solidFill>
                <a:srgbClr val="ffffff"/>
              </a:solidFill>
              <a:latin typeface="Metrostyle Extended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10080"/>
            <a:ext cx="56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Futura XBlk BT"/>
              </a:rPr>
              <a:t>www.laservisions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6172200"/>
            <a:ext cx="75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255c8"/>
                </a:solidFill>
                <a:latin typeface="Metrostyle Extended"/>
              </a:rPr>
              <a:t>   </a:t>
            </a:r>
            <a:r>
              <a:rPr b="0" lang="de-DE" sz="2000" spc="-1" strike="noStrike">
                <a:solidFill>
                  <a:srgbClr val="5255c8"/>
                </a:solidFill>
                <a:latin typeface="Metrostyle Extended"/>
              </a:rPr>
              <a:t>World Leader in Specialty Digital Viny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Per‘f-Alite Electric Vinyl</a:t>
            </a:r>
            <a:r>
              <a:rPr b="0" lang="de-DE" sz="1800" spc="-1" strike="noStrike" baseline="30000">
                <a:solidFill>
                  <a:srgbClr val="ffffff"/>
                </a:solidFill>
                <a:latin typeface="Metrostyle"/>
              </a:rPr>
              <a:t>PAT.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Retroreflective One-Way Vinyl</a:t>
            </a:r>
            <a:r>
              <a:rPr b="0" lang="de-DE" sz="1800" spc="-1" strike="noStrike" baseline="30000">
                <a:solidFill>
                  <a:srgbClr val="ffffff"/>
                </a:solidFill>
                <a:latin typeface="Metrostyle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for Transit and Fleet Signage</a:t>
            </a:r>
            <a:r>
              <a:rPr b="0" lang="de-DE" sz="1800" spc="-1" strike="noStrike" baseline="30000">
                <a:solidFill>
                  <a:srgbClr val="ffffff"/>
                </a:solidFill>
                <a:latin typeface="Metrostyle"/>
              </a:rPr>
              <a:t>PAT.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DoubleVision Vinyl for Back-Lit Signage</a:t>
            </a:r>
            <a:r>
              <a:rPr b="0" lang="de-DE" sz="1800" spc="-1" strike="noStrike" baseline="30000">
                <a:solidFill>
                  <a:srgbClr val="ffffff"/>
                </a:solidFill>
                <a:latin typeface="Metrostyle"/>
              </a:rPr>
              <a:t>PAT. </a:t>
            </a:r>
            <a:r>
              <a:rPr b="0" i="1" lang="de-DE" sz="1600" spc="-1" strike="noStrike">
                <a:solidFill>
                  <a:srgbClr val="ffffff"/>
                </a:solidFill>
                <a:latin typeface="Metrostyle"/>
              </a:rPr>
              <a:t>(One message by Day...  another Message by Night!)</a:t>
            </a:r>
            <a:endParaRPr b="0" lang="en-US" sz="1600" spc="-1" strike="noStrike">
              <a:solidFill>
                <a:srgbClr val="ffffff"/>
              </a:solidFill>
              <a:latin typeface="Metrostyle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Ink-Jet Printable One-Way Vinyl</a:t>
            </a:r>
            <a:r>
              <a:rPr b="0" lang="de-DE" sz="1800" spc="-1" strike="noStrike" baseline="30000">
                <a:solidFill>
                  <a:srgbClr val="ffffff"/>
                </a:solidFill>
                <a:latin typeface="Metrostyle"/>
              </a:rPr>
              <a:t>PAT. PEND.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Metrostyle"/>
              </a:rPr>
              <a:t>Weather-All</a:t>
            </a: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 Optically Clear Conformable UV Overlaminate</a:t>
            </a:r>
            <a:r>
              <a:rPr b="0" lang="de-DE" sz="1800" spc="-1" strike="noStrike" baseline="30000">
                <a:solidFill>
                  <a:srgbClr val="ffffff"/>
                </a:solidFill>
                <a:latin typeface="Metrostyle"/>
              </a:rPr>
              <a:t>TM.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Metrostyle"/>
              </a:rPr>
              <a:t>E</a:t>
            </a: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-Tape Edge Sealant</a:t>
            </a:r>
            <a:r>
              <a:rPr b="0" lang="de-DE" sz="1800" spc="-1" strike="noStrike" baseline="30000">
                <a:solidFill>
                  <a:srgbClr val="ffffff"/>
                </a:solidFill>
                <a:latin typeface="Metrostyle"/>
              </a:rPr>
              <a:t>TM.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Sign</a:t>
            </a:r>
            <a:r>
              <a:rPr b="0" i="1" lang="de-DE" sz="1800" spc="-1" strike="noStrike">
                <a:solidFill>
                  <a:srgbClr val="ffffff"/>
                </a:solidFill>
                <a:latin typeface="Metrostyle"/>
              </a:rPr>
              <a:t>Motion</a:t>
            </a: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 Motorized Moving Lenticular Displays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52" name=""/>
          <p:cNvSpPr/>
          <p:nvPr/>
        </p:nvSpPr>
        <p:spPr>
          <a:xfrm>
            <a:off x="2409840" y="3962520"/>
            <a:ext cx="432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Futura XBlk BT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leterhd2%20copy22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3504960" cy="7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Other advantages:</a:t>
            </a: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3809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-9936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Long life expectancy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marL="99360" indent="-9936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Maintenance free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marL="99360" indent="-9936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Energy saver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marL="99360" indent="-9936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Safe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marL="99360" indent="-9936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Good light quaility, best edge-to-edge homogenous light scattering of any sign box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marL="99360" indent="-9936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Superior illuminated viewing angles of your graphics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marL="99360" indent="-9936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Easy to install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3366ff"/>
                </a:solidFill>
                <a:latin typeface="Metrostyle Extended"/>
              </a:rPr>
              <a:t>Electric Viny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29320" y="297180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the flexible solution for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3366ff"/>
                </a:solidFill>
                <a:latin typeface="Metrostyle Extended"/>
              </a:rPr>
              <a:t>Electric Vinyl</a:t>
            </a:r>
            <a:endParaRPr b="0" lang="en-US" sz="6000" spc="-1" strike="noStrike">
              <a:solidFill>
                <a:srgbClr val="ffffff"/>
              </a:solidFill>
              <a:latin typeface="Metrostyle Extended"/>
            </a:endParaRPr>
          </a:p>
        </p:txBody>
      </p:sp>
      <p:sp>
        <p:nvSpPr>
          <p:cNvPr id="135" name=""/>
          <p:cNvSpPr/>
          <p:nvPr/>
        </p:nvSpPr>
        <p:spPr>
          <a:xfrm>
            <a:off x="2038680" y="3733920"/>
            <a:ext cx="45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    </a:t>
            </a: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the flexible solution for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76520" y="1828800"/>
            <a:ext cx="563868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3366ff"/>
                </a:solidFill>
                <a:latin typeface="Metrostyle Extended"/>
              </a:rPr>
              <a:t>Per‘f-Alite</a:t>
            </a:r>
            <a:r>
              <a:rPr b="0" lang="de-DE" sz="5400" spc="-1" strike="noStrike" baseline="30000">
                <a:solidFill>
                  <a:srgbClr val="3366ff"/>
                </a:solidFill>
                <a:latin typeface="Metrostyle Extended"/>
              </a:rPr>
              <a:t>PAT.</a:t>
            </a:r>
            <a:br>
              <a:rPr sz="5400"/>
            </a:br>
            <a:r>
              <a:rPr b="0" lang="de-DE" sz="5400" spc="-1" strike="noStrike">
                <a:solidFill>
                  <a:srgbClr val="00ffff"/>
                </a:solidFill>
                <a:latin typeface="Metrostyle Extended"/>
              </a:rPr>
              <a:t>Electric Viny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17640" y="4114800"/>
            <a:ext cx="47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       </a:t>
            </a: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the flexible solution for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leterhd2%20copy22" descr=""/>
          <p:cNvPicPr/>
          <p:nvPr/>
        </p:nvPicPr>
        <p:blipFill>
          <a:blip r:embed="rId1"/>
          <a:stretch/>
        </p:blipFill>
        <p:spPr>
          <a:xfrm>
            <a:off x="2666880" y="0"/>
            <a:ext cx="3810240" cy="852480"/>
          </a:xfrm>
          <a:prstGeom prst="rect">
            <a:avLst/>
          </a:prstGeom>
          <a:ln w="0">
            <a:noFill/>
          </a:ln>
        </p:spPr>
      </p:pic>
      <p:pic>
        <p:nvPicPr>
          <p:cNvPr id="141" name="productOFTHEYEAR1999%20video2" descr=""/>
          <p:cNvPicPr/>
          <p:nvPr/>
        </p:nvPicPr>
        <p:blipFill>
          <a:blip r:embed="rId2"/>
          <a:stretch/>
        </p:blipFill>
        <p:spPr>
          <a:xfrm>
            <a:off x="3886200" y="5105520"/>
            <a:ext cx="1295280" cy="1271520"/>
          </a:xfrm>
          <a:prstGeom prst="rect">
            <a:avLst/>
          </a:prstGeom>
          <a:ln w="0">
            <a:noFill/>
          </a:ln>
        </p:spPr>
      </p:pic>
      <p:pic>
        <p:nvPicPr>
          <p:cNvPr id="142" name="VisionAward1999%20video2" descr=""/>
          <p:cNvPicPr/>
          <p:nvPr/>
        </p:nvPicPr>
        <p:blipFill>
          <a:blip r:embed="rId3"/>
          <a:stretch/>
        </p:blipFill>
        <p:spPr>
          <a:xfrm>
            <a:off x="2286000" y="5105520"/>
            <a:ext cx="1295280" cy="1222200"/>
          </a:xfrm>
          <a:prstGeom prst="rect">
            <a:avLst/>
          </a:prstGeom>
          <a:ln w="0">
            <a:noFill/>
          </a:ln>
        </p:spPr>
      </p:pic>
      <p:pic>
        <p:nvPicPr>
          <p:cNvPr id="143" name="productOFTHEYEAR2000%20video2" descr=""/>
          <p:cNvPicPr/>
          <p:nvPr/>
        </p:nvPicPr>
        <p:blipFill>
          <a:blip r:embed="rId4"/>
          <a:stretch/>
        </p:blipFill>
        <p:spPr>
          <a:xfrm>
            <a:off x="5486400" y="5105520"/>
            <a:ext cx="1295280" cy="12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86080" y="6858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Futura XBlk BT"/>
              </a:rPr>
              <a:t>www.laservisions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0512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255c8"/>
                </a:solidFill>
                <a:latin typeface="Metrostyle Extended"/>
              </a:rPr>
              <a:t>pres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57440" y="609480"/>
            <a:ext cx="432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Futura XBlk BT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3352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etrostyle Extended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62480" y="472428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the flexible solution for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3366ff"/>
                </a:solidFill>
                <a:latin typeface="Metrostyle Extended"/>
              </a:rPr>
              <a:t>Per‘f-Alite</a:t>
            </a:r>
            <a:r>
              <a:rPr b="0" lang="de-DE" sz="5400" spc="-1" strike="noStrike" baseline="30000">
                <a:solidFill>
                  <a:srgbClr val="3366ff"/>
                </a:solidFill>
                <a:latin typeface="Metrostyle Extended"/>
              </a:rPr>
              <a:t>PAT.</a:t>
            </a:r>
            <a:r>
              <a:rPr b="0" lang="de-DE" sz="6000" spc="-1" strike="noStrike">
                <a:solidFill>
                  <a:srgbClr val="00ffff"/>
                </a:solidFill>
                <a:latin typeface="Metrostyle Extended"/>
              </a:rPr>
              <a:t> </a:t>
            </a:r>
            <a:br>
              <a:rPr sz="6000"/>
            </a:br>
            <a:r>
              <a:rPr b="0" lang="de-DE" sz="6000" spc="-1" strike="noStrike">
                <a:solidFill>
                  <a:srgbClr val="00ffff"/>
                </a:solidFill>
                <a:latin typeface="Metrostyle Extended"/>
              </a:rPr>
              <a:t>Electric Viny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443520"/>
            <a:ext cx="76320" cy="66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ress11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15200" cy="684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2860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he product is electric viny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his version is designed for wall plac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New light products using Electric Vinyl</a:t>
            </a: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sp>
        <p:nvSpPr>
          <p:cNvPr id="64" name=""/>
          <p:cNvSpPr/>
          <p:nvPr/>
        </p:nvSpPr>
        <p:spPr>
          <a:xfrm>
            <a:off x="622080" y="1295280"/>
            <a:ext cx="811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66ff"/>
                </a:solidFill>
                <a:latin typeface="Metrostyle Extended"/>
              </a:rPr>
              <a:t>For Instance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30481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2000"/>
          </a:bodyPr>
          <a:p>
            <a:pPr marL="75240" indent="-7524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Flat light panels that are easily mounted on walls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marL="75240" indent="-7524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Light-up concrete pillars with advertising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marL="75240" indent="-7524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Dispensing machines with lit-up advertisements will be transformed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marL="75240" indent="-7524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Illuminated floor graphics will provide your clients with that WOW piece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marL="75240" indent="-7524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Easily installed direction signs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marL="75240" indent="-7524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Free hanging lit-up signs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marL="75240" indent="-7524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The perfect combo for illuminated 3-D lenticular graphics (even counter top)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marL="75240" indent="-7524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Anywhere where space is at a premium (ie; illuminated elevator ads)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  <a:p>
            <a:pPr marL="75240" indent="-75240">
              <a:spcBef>
                <a:spcPts val="451"/>
              </a:spcBef>
              <a:buClr>
                <a:srgbClr val="ffffff"/>
              </a:buClr>
              <a:buFont typeface="Metro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Metrostyle"/>
              </a:rPr>
              <a:t>Anywhere where security is important because you can‘t hide anything in our light boxes (ie; Government installations) </a:t>
            </a:r>
            <a:endParaRPr b="0" lang="en-US" sz="1800" spc="-1" strike="noStrike">
              <a:solidFill>
                <a:srgbClr val="ffffff"/>
              </a:solidFill>
              <a:latin typeface="Metrosty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Flat light panels are easily mounted on walls</a:t>
            </a: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pic>
        <p:nvPicPr>
          <p:cNvPr id="67" name="Naomi1" descr=""/>
          <p:cNvPicPr/>
          <p:nvPr/>
        </p:nvPicPr>
        <p:blipFill>
          <a:blip r:embed="rId1"/>
          <a:stretch/>
        </p:blipFill>
        <p:spPr>
          <a:xfrm>
            <a:off x="-22860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76320" y="30492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"/>
              </a:rPr>
              <a:t>An unlit corn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Naomi2" descr=""/>
          <p:cNvPicPr/>
          <p:nvPr/>
        </p:nvPicPr>
        <p:blipFill>
          <a:blip r:embed="rId2"/>
          <a:stretch/>
        </p:blipFill>
        <p:spPr>
          <a:xfrm>
            <a:off x="-1522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9000" y="228600"/>
            <a:ext cx="92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"/>
              </a:rPr>
              <a:t>... With electric vinyl, any surface becomes a place for lit-up 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Dress up concrete pillars with advertising</a:t>
            </a: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pic>
        <p:nvPicPr>
          <p:cNvPr id="72" name="Cola1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9360" y="228600"/>
            <a:ext cx="77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"/>
              </a:rPr>
              <a:t>Subway passengers have little of interest to look a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Cola2" descr=""/>
          <p:cNvPicPr/>
          <p:nvPr/>
        </p:nvPicPr>
        <p:blipFill>
          <a:blip r:embed="rId2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3040" y="152280"/>
            <a:ext cx="827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"/>
              </a:rPr>
              <a:t>Unsightly pillars become attractive and interesting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"/>
              </a:rPr>
              <a:t>electric vinyl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Put lit-up advertising on dispensing machines</a:t>
            </a: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pic>
        <p:nvPicPr>
          <p:cNvPr id="77" name="Zigaretten1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98440" y="624852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"/>
              </a:rPr>
              <a:t>An ugly cigarette dispensing machin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Zigaretten2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18160" y="624852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"/>
              </a:rPr>
              <a:t>... Becomes a work of art with electric viny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 Extended"/>
              </a:rPr>
              <a:t>Conventional light signs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etrostyle Extended"/>
            </a:endParaRPr>
          </a:p>
        </p:txBody>
      </p:sp>
      <p:pic>
        <p:nvPicPr>
          <p:cNvPr id="82" name="Kaufhof1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-174240" y="228600"/>
            <a:ext cx="65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"/>
              </a:rPr>
              <a:t>Do you know which store you are looking 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Kaufhof2" descr=""/>
          <p:cNvPicPr/>
          <p:nvPr/>
        </p:nvPicPr>
        <p:blipFill>
          <a:blip r:embed="rId2"/>
          <a:stretch/>
        </p:blipFill>
        <p:spPr>
          <a:xfrm>
            <a:off x="-2286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3320" y="30492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etrostyle"/>
              </a:rPr>
              <a:t>Now you 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5T09:12:11Z</dcterms:created>
  <dc:creator>FKS</dc:creator>
  <dc:description/>
  <dc:language>en-US</dc:language>
  <cp:lastModifiedBy>Myke Andriash</cp:lastModifiedBy>
  <dcterms:modified xsi:type="dcterms:W3CDTF">2000-12-18T20:09:14Z</dcterms:modified>
  <cp:revision>100</cp:revision>
  <dc:subject/>
  <dc:title>Kein Folientitel</dc:title>
</cp:coreProperties>
</file>